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2530-EA49-44AA-A1EA-B233B955E236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B85-0465-45CF-9019-C7BAA02A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FE7-CB66-4D66-AF2F-F7F0FB9D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8C0-998F-460B-AFD1-CA33D87A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E54-82E7-417C-A927-A14E2438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59B-D7C6-4920-8167-0C4B35E2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D81-F60C-4195-AA79-80F65882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671-DEBE-4EBC-9B7E-1417F96E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659-337B-46E1-ACA6-F9135933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921-A4C5-49BD-8C0A-7A11B92D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2EE-DF2E-4DE3-B566-D4567BF9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A62-7CAA-408A-92B5-10D6C00A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682-E535-4805-88CD-0FD44B92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A44A-C607-4954-8459-B1E7DF83C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re is a connectivity to access router/gatewa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if fa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register if do not receive the success notification from the remote hu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a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53080" y="641556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41640" y="1066680"/>
            <a:ext cx="275760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81680" y="1295280"/>
            <a:ext cx="1828800" cy="53352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 flipV="1">
            <a:off x="4583160" y="1598040"/>
            <a:ext cx="222084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3" y="0"/>
                </a:moveTo>
                <a:lnTo>
                  <a:pt x="0" y="0"/>
                </a:lnTo>
                <a:lnTo>
                  <a:pt x="0" y="21600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1280" y="2754360"/>
            <a:ext cx="1828800" cy="64620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648320" y="4037040"/>
            <a:ext cx="0" cy="1447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1141560" y="5562720"/>
            <a:ext cx="849240" cy="609480"/>
            <a:chOff x="1141560" y="5562720"/>
            <a:chExt cx="849240" cy="609480"/>
          </a:xfrm>
        </p:grpSpPr>
        <p:sp>
          <p:nvSpPr>
            <p:cNvPr id="58" name="AutoShape 9"/>
            <p:cNvSpPr/>
            <p:nvPr/>
          </p:nvSpPr>
          <p:spPr>
            <a:xfrm>
              <a:off x="1141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1262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189320" y="5562720"/>
            <a:ext cx="849240" cy="609480"/>
            <a:chOff x="4189320" y="5562720"/>
            <a:chExt cx="849240" cy="609480"/>
          </a:xfrm>
        </p:grpSpPr>
        <p:sp>
          <p:nvSpPr>
            <p:cNvPr id="61" name="AutoShape 12"/>
            <p:cNvSpPr/>
            <p:nvPr/>
          </p:nvSpPr>
          <p:spPr>
            <a:xfrm>
              <a:off x="418932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31064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6856560" y="5562720"/>
            <a:ext cx="849240" cy="609480"/>
            <a:chOff x="6856560" y="5562720"/>
            <a:chExt cx="849240" cy="609480"/>
          </a:xfrm>
        </p:grpSpPr>
        <p:sp>
          <p:nvSpPr>
            <p:cNvPr id="64" name="AutoShape 15"/>
            <p:cNvSpPr/>
            <p:nvPr/>
          </p:nvSpPr>
          <p:spPr>
            <a:xfrm>
              <a:off x="6856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977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Line 17"/>
          <p:cNvSpPr/>
          <p:nvPr/>
        </p:nvSpPr>
        <p:spPr>
          <a:xfrm flipH="1" flipV="1">
            <a:off x="5334120" y="4037040"/>
            <a:ext cx="16761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 flipV="1">
            <a:off x="1839960" y="4037040"/>
            <a:ext cx="18939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3504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429000" y="4800600"/>
            <a:ext cx="220968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743200" y="3668760"/>
            <a:ext cx="323856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86728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819520" y="1868400"/>
            <a:ext cx="3581280" cy="5490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562720" y="4800600"/>
            <a:ext cx="53316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434"/>
                  <a:pt x="10800" y="969"/>
                </a:cubicBezTo>
                <a:lnTo>
                  <a:pt x="10800" y="9831"/>
                </a:lnTo>
                <a:cubicBezTo>
                  <a:pt x="10800" y="10366"/>
                  <a:pt x="15635" y="10800"/>
                  <a:pt x="21600" y="10800"/>
                </a:cubicBezTo>
                <a:cubicBezTo>
                  <a:pt x="15635" y="10800"/>
                  <a:pt x="10800" y="11234"/>
                  <a:pt x="10800" y="11769"/>
                </a:cubicBezTo>
                <a:lnTo>
                  <a:pt x="10800" y="20631"/>
                </a:lnTo>
                <a:cubicBezTo>
                  <a:pt x="10800" y="21166"/>
                  <a:pt x="5965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fte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prefix registration for prefix &lt;P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“/localhost”.isPrefixOf(&lt;P&gt;) or no connection to gateway h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keys, namespaces) &lt;- enumerate keys NRD 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each key defines “namespace” it u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we define the following convention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namespace:  /&lt;..1..&gt;/&lt;..2..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&lt;KEY&gt;, &lt;PREFIX&gt;) &lt;- longest prefix match on key namespaces for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if nothing found, 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&lt;PREIFX&gt; already regis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end localhop registration fo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ign with &lt;KE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chedule registration refresh for &lt;PREFIX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add &lt;PREFIX&gt; to the registered prefix s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41E6-B772-4776-81A4-D2710D4EFB79}" type="slidenum"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whether connected to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rely on 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localhop/&lt;site&gt;/nf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ndn/edu/ucl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org/caid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“/localhop/&lt;site&gt;/nfd” route exists in RIB, then we are connected to one or more hu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1: only 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one hub or requires broadcast strate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all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it name of the hub in the nam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ries regist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with ndn-auto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remot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found /localhop/&lt;site&gt;/nfd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gistration for prefix &lt;P&gt; is in progress for localhop entry &lt;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/localhop/&lt;site&gt;/nfd/rib/register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or timeout (4s),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5 retries (configurable para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Only /localhop/nfd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 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localhos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isPrefixOf(&lt;P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Afanasyev</cp:lastModifiedBy>
  <dcterms:modified xsi:type="dcterms:W3CDTF">2014-10-20T14:35:19Z</dcterms:modified>
  <cp:revision>15</cp:revision>
  <dc:subject/>
  <dc:title>Remote Prefix Registration</dc:title>
</cp:coreProperties>
</file>